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7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B3B1-F413-42A6-AD25-E82DC310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3BA8-D551-4C1D-95B0-7B7C7800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7E6A-9642-4F7F-A587-D0899CDB8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45DD-B20F-41BB-82A9-0C9ED77E6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BE00-552D-42D7-8262-790E54E4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A13E-4956-462A-AD58-91A5C21E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B4F4-1F97-4B2E-B3D2-16D09A52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EE44-AF90-40E7-B010-AD4B521E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CC49-92BD-40BB-BB71-3A8865C5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05E6-D470-4D49-A838-3013ACF4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D4E5-A5BB-42BA-8CF3-1F995871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4A1C-470D-48A9-8391-33833431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E3B6-F83D-46A4-85AC-DE8C64AA6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257440" y="228600"/>
            <a:ext cx="3886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Азия: природное и культурное историческое наследие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(часть 3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467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952880" y="525780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ОУ «Гимназия №2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. Белгород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едорова О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4343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т в Джодхпуре возвышается словно неприступная скала. Это наиболее примечательное здание  600-летнего го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3760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5486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дж-Махал, мраморный мавзолей любимой жены императора Шах-Джахана, по вечерам излучает нежно-розовый с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нгладеш. Золотой храм в Амритсаре – духовный центр сикхов, монотеистической религиозной общ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хат Дасашвамедх в городе Варанаси на реке Ганг. Верующие совершают здесь ритуальные омов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3786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248160" y="151920"/>
            <a:ext cx="289548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род называет Бангладеш «золотой Бенгалией» - ее плодородные почвы привлекают в эти места миллионы людей. Наводнения, во время которых ежегодно тонут тысячи людей, здесь терпят как горькую неизбе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3740040"/>
            <a:ext cx="6272280" cy="3117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095880" cy="3549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5791320" cy="28987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867280" y="228240"/>
            <a:ext cx="32767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Шри-Ланка носит звучное название «страна, освещаемая королем». Возделываемый здесь чай всемирно известен как «цейлонски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днако остров испытывает большие трудности в связи с размежеванием населения и массовой бед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5791320" cy="2762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-360" y="3352320"/>
            <a:ext cx="33526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з слонов не обойтись в густом лесу при валке деревьев. Тысячелетиями в Шри-Ланке слонов приручают и им поклоня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5520" y="0"/>
            <a:ext cx="3048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иноафиша и товары мелкого торговца соседствуют на одной из улиц города-миллионера Колом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352680" y="2671920"/>
            <a:ext cx="5791320" cy="4186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095880" cy="2481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487692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ри-Ланка: знаменитый буддийский храм Раджа Маха Вихара в пригороде Коломбо - Кел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3786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152280" y="5333760"/>
            <a:ext cx="9601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праздник «перахера» в Катарагаму на юго-востоке Шри-Ланки стекаются паломники. Танцы сопровождают церемонию, во время которой у богов просят счастья и про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23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48765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дху – святые люди Непала, строгие аскеты. Традиции аскетизма – особенность индуизма.  Садху через самоотречение пытаются преодолеть связь с земными ценностями и таким образом приблизиться к высшей одухотворенности. Основа их веры в том, что душа, связанная с телом, забывает о своей вечной сущ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11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51811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сульмане во время молитвы в знаменитой мечети Омейядо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 В Дамаске, в которой якобы хранится голова Иоанна Крест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4367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105520" cy="2567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828800" y="4175280"/>
            <a:ext cx="5105520" cy="26827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25905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Шерпа, народ Гималаев, проводники по «крыше мира». В агрессивной природной среде они вырабатывают свою стратегию выживания, например занимаются земледелием даже в очень суровых услов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аосский буддийский монах  благоговейно молится перед золотой статуей лежащего Буд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4672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51055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осистские священники в Сингапуре отправляют службу в честь Праздника голодных духов. Их одеяния украшены символами единства Вселенной – Инь и Янь, а также восемью триграмм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4692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46720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51811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т умудренный жизнью мужчина из Пушкара в Раджастане – садху, аскет-индуист. Красная точка на лбу означает третий глаз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9252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-360" y="4419360"/>
            <a:ext cx="39625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лубая мечеть в афганском Мазари-Шарифе: голуби мира в измученной ст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8320" y="228600"/>
            <a:ext cx="4495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акистане шариат, где своды религиозных и правовых норм, заменил гражданский кодекс. Важные центры общественной жизни- мечети, где святые старцы принимают решение о правомочности какого-либо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038480" y="4064040"/>
            <a:ext cx="5105520" cy="2793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4054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48765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Пакистана и Индии характерно пестрое разнообразие  базаров: выбор чрезвычайно богат – от бесчисленных изысканных сладостей и чая, экзотических плодов и ковров до живого ск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35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мбай (в 1997 г. Бомбею возвращено это древнее название) – ворота Индии. Около 50% внешней торговли осуществляется через его мощный порт. Город насчитывает около 10 млн ж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2665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lad</cp:lastModifiedBy>
  <dcterms:modified xsi:type="dcterms:W3CDTF">2011-03-04T20:31:5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